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CCE-20B1-4D5E-A24F-999B400F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8C5-0DCC-494A-B38C-F7A3AE1B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152-5EC5-4700-B9CD-1CA74184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C2E-A784-4EDB-898E-0B61E343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CF0-3138-40D2-AC31-3F8E9968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E2C-5C6A-4C3D-9A98-AF9F41C3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B2E-B6B8-4B5F-A1A8-41EB620C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D4B-CCA2-4C8F-A0D7-215545F8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6DD-EDC5-4BF2-AAAB-3DEE1858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8EC-B5C1-4DAB-AD3B-F00825C7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6CD-B394-4254-A950-68EE501D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ED7-E22E-4893-8971-13309FE3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2208-1278-41BD-B465-A5BD54EA6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01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98280" y="44280"/>
            <a:ext cx="9010800" cy="673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7:36:46Z</dcterms:created>
  <dc:creator>Utilisateur Windows</dc:creator>
  <dc:description/>
  <dc:language>en-US</dc:language>
  <cp:lastModifiedBy>Utilisateur Windows</cp:lastModifiedBy>
  <dcterms:modified xsi:type="dcterms:W3CDTF">2016-11-24T14:06:38Z</dcterms:modified>
  <cp:revision>3</cp:revision>
  <dc:subject/>
  <dc:title>Présentation PowerPoint</dc:title>
</cp:coreProperties>
</file>