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2D00-B696-41DD-AA1C-7A1B222B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B5F-447F-47EB-A3E2-5B3D9E9C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25A0-2D36-4637-AB28-DBC6C80E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1099-38B1-4C18-8011-710CFB55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EBDB-ADDD-4D1F-85F4-69447A07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F7F-453D-4560-B7B8-72F72A26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750F-FA0B-4173-929D-EC870C90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E825-F99D-4176-A254-E0715993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8FDA-6AD2-498A-8E64-684EB054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AFC-276A-46BE-9152-6A9ADAD3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B29B-22B8-48F9-956B-59F0EDDF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6A6C-35CF-46C7-A725-A6097CBA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68FE-BADB-43D7-85AF-A3294225F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60480" y="44280"/>
            <a:ext cx="9048600" cy="67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8" descr=""/>
          <p:cNvPicPr/>
          <p:nvPr/>
        </p:nvPicPr>
        <p:blipFill>
          <a:blip r:embed="rId1"/>
          <a:stretch/>
        </p:blipFill>
        <p:spPr>
          <a:xfrm>
            <a:off x="34920" y="115920"/>
            <a:ext cx="9005760" cy="67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61560" cy="674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7416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5508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8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7740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54000" y="115920"/>
            <a:ext cx="89820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897264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8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82360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5968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17:37:38Z</dcterms:created>
  <dc:creator>Utilisateur Windows</dc:creator>
  <dc:description/>
  <dc:language>en-US</dc:language>
  <cp:lastModifiedBy>Utilisateur Windows</cp:lastModifiedBy>
  <dcterms:modified xsi:type="dcterms:W3CDTF">2016-11-23T17:38:00Z</dcterms:modified>
  <cp:revision>1</cp:revision>
  <dc:subject/>
  <dc:title>Présentation PowerPoint</dc:title>
</cp:coreProperties>
</file>