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A6E9-6225-477A-AD0A-A4E64D0C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A74-11FB-4BEB-8715-1CA8043D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5F7-0A85-40E4-8805-FD29CE4D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409A-49F7-43B4-AC85-997DB770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DCA-EEFE-4153-9C98-7892B24F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53DB-E31B-474A-AC35-81AEE62A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9883-397B-49CA-93CB-DC6179CB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F06A-636F-4641-B462-B2FDE2E4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DA8-4CA0-4D40-8EE1-4668234E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2E2E-35FE-4603-BBAB-A4CCE5C3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925D-DF74-488E-AE6A-10A5121B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663-8076-48F7-A581-90DA6FE3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A604-7360-414B-9A78-4AD721866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Espace réservé du pied de page 2"/>
          <p:cNvSpPr/>
          <p:nvPr/>
        </p:nvSpPr>
        <p:spPr>
          <a:xfrm>
            <a:off x="2556000" y="6356520"/>
            <a:ext cx="41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Réseau CClin/Arlin - Grephh - Quick-audit HDM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88920" y="44280"/>
            <a:ext cx="9020160" cy="673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2016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34920" y="112680"/>
            <a:ext cx="90201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"/>
          <p:cNvPicPr/>
          <p:nvPr/>
        </p:nvPicPr>
        <p:blipFill>
          <a:blip r:embed="rId1"/>
          <a:stretch/>
        </p:blipFill>
        <p:spPr>
          <a:xfrm>
            <a:off x="34920" y="55440"/>
            <a:ext cx="903924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2988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"/>
          <p:cNvPicPr/>
          <p:nvPr/>
        </p:nvPicPr>
        <p:blipFill>
          <a:blip r:embed="rId1"/>
          <a:stretch/>
        </p:blipFill>
        <p:spPr>
          <a:xfrm>
            <a:off x="34920" y="44280"/>
            <a:ext cx="899172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392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"/>
          <p:cNvPicPr/>
          <p:nvPr/>
        </p:nvPicPr>
        <p:blipFill>
          <a:blip r:embed="rId1"/>
          <a:stretch/>
        </p:blipFill>
        <p:spPr>
          <a:xfrm>
            <a:off x="98280" y="44280"/>
            <a:ext cx="901080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54000" y="44280"/>
            <a:ext cx="89820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8200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4" descr=""/>
          <p:cNvPicPr/>
          <p:nvPr/>
        </p:nvPicPr>
        <p:blipFill>
          <a:blip r:embed="rId1"/>
          <a:stretch/>
        </p:blipFill>
        <p:spPr>
          <a:xfrm>
            <a:off x="54000" y="44280"/>
            <a:ext cx="905832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2016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"/>
          <p:cNvPicPr/>
          <p:nvPr/>
        </p:nvPicPr>
        <p:blipFill>
          <a:blip r:embed="rId1"/>
          <a:stretch/>
        </p:blipFill>
        <p:spPr>
          <a:xfrm>
            <a:off x="79200" y="79200"/>
            <a:ext cx="9029880" cy="673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9" descr=""/>
          <p:cNvPicPr/>
          <p:nvPr/>
        </p:nvPicPr>
        <p:blipFill>
          <a:blip r:embed="rId1"/>
          <a:stretch/>
        </p:blipFill>
        <p:spPr>
          <a:xfrm>
            <a:off x="88920" y="44280"/>
            <a:ext cx="902016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"/>
          <p:cNvPicPr/>
          <p:nvPr/>
        </p:nvPicPr>
        <p:blipFill>
          <a:blip r:embed="rId1"/>
          <a:stretch/>
        </p:blipFill>
        <p:spPr>
          <a:xfrm>
            <a:off x="69840" y="127080"/>
            <a:ext cx="903924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34920" y="69840"/>
            <a:ext cx="901080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34920" y="96840"/>
            <a:ext cx="90010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7:35:58Z</dcterms:created>
  <dc:creator>Utilisateur Windows</dc:creator>
  <dc:description/>
  <dc:language>en-US</dc:language>
  <cp:lastModifiedBy>Utilisateur Windows</cp:lastModifiedBy>
  <dcterms:modified xsi:type="dcterms:W3CDTF">2016-11-23T17:36:19Z</dcterms:modified>
  <cp:revision>1</cp:revision>
  <dc:subject/>
  <dc:title>Présentation PowerPoint</dc:title>
</cp:coreProperties>
</file>