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5D95-7148-4B44-B087-2209763C1D3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Type d’ind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« avant 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CBBC-4A99-4CAD-B315-62EE3E2BE418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Type d’ind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« avant 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7F9F-2BF7-4546-8646-3CFFDDAA236A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F71F-DF9E-4BAA-8CD5-E58ABC7F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C379-292A-4739-B8BF-E0B4DA57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EE6E-4F8E-4CD5-BC68-5A7B923E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C905-D4E8-43EF-91B8-B4EB9D8F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C02F-A023-4589-9AB2-7A3E7907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6126-12CE-40CF-A06B-51F32896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E34F-8B4C-4622-B75D-99C64DB4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FCED-14B1-4D6D-B991-4DC15190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8D58-F6C1-458F-A015-8983BA2D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890C-A80B-4130-8E1F-8E4EECDA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0D7F-EE2E-4B3C-A270-9C0AA5C6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EF44-546C-4FBE-8CE0-7108E481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AB0E-5819-4C6F-996C-FF9C6D1C3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8956800" cy="66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2" descr=""/>
          <p:cNvPicPr/>
          <p:nvPr/>
        </p:nvPicPr>
        <p:blipFill>
          <a:blip r:embed="rId1"/>
          <a:stretch/>
        </p:blipFill>
        <p:spPr>
          <a:xfrm>
            <a:off x="100080" y="44280"/>
            <a:ext cx="90090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5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90010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9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900108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57240" y="44280"/>
            <a:ext cx="897876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5968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5" descr=""/>
          <p:cNvPicPr/>
          <p:nvPr/>
        </p:nvPicPr>
        <p:blipFill>
          <a:blip r:embed="rId1"/>
          <a:stretch/>
        </p:blipFill>
        <p:spPr>
          <a:xfrm>
            <a:off x="34920" y="90360"/>
            <a:ext cx="9001080" cy="672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33480" y="68400"/>
            <a:ext cx="9016920" cy="67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108000" y="157320"/>
            <a:ext cx="892800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108000" y="65160"/>
            <a:ext cx="8928000" cy="66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33200" y="44280"/>
            <a:ext cx="8902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2664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1080" cy="67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150840" y="108000"/>
            <a:ext cx="888516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10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1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1080" cy="67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17:31:20Z</dcterms:created>
  <dc:creator>Utilisateur Windows</dc:creator>
  <dc:description/>
  <dc:language>en-US</dc:language>
  <cp:lastModifiedBy>Utilisateur Windows</cp:lastModifiedBy>
  <dcterms:modified xsi:type="dcterms:W3CDTF">2016-11-23T17:31:58Z</dcterms:modified>
  <cp:revision>1</cp:revision>
  <dc:subject/>
  <dc:title>Présentation PowerPoint</dc:title>
</cp:coreProperties>
</file>