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BFD-F9AE-4341-B0F1-1404FE74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CA0-EAE4-4668-9546-2297FE22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8E1-878C-4F50-AB2C-678417EA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41A-B71B-450F-A696-1841DD11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3E0-B74A-4894-8D98-51499CC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317-7ABE-4460-96BF-423AFE5C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15B-107F-4BB0-9865-855350B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0B8-0598-4191-9F28-DE12E4ED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974-6887-4E9A-84BB-EB5ED470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561-5D2D-499C-B9BD-7CA09CA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5AC-B241-4AE2-91C4-B8ED68F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93B-F6C2-4B41-834F-71309B1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58C1-67A8-4CF3-8855-49D222F5E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7:38:19Z</dcterms:created>
  <dc:creator>Utilisateur Windows</dc:creator>
  <dc:description/>
  <dc:language>en-US</dc:language>
  <cp:lastModifiedBy>Utilisateur Windows</cp:lastModifiedBy>
  <dcterms:modified xsi:type="dcterms:W3CDTF">2016-11-23T17:38:58Z</dcterms:modified>
  <cp:revision>1</cp:revision>
  <dc:subject/>
  <dc:title>Présentation PowerPoint</dc:title>
</cp:coreProperties>
</file>