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9DD-786D-443F-AC79-C165E78E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E47-1640-4F3A-821A-C43CC37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337-B400-4CBE-9D0E-7222591E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372-A4E9-4A9E-88EE-F4396AA4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150-63E3-4CF4-A279-99A79A37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1B7-0DB3-4F0D-990A-8120F60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013-67D4-4C13-AA22-1B4AFB6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A21-9A8C-48C8-8435-4CF1E99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079-0AD9-42A1-9261-06C7AB9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287-17AA-45C4-97BF-6EE7907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0B8-59F0-4B2B-A4F9-CB01F51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0E7-8094-498C-BDDC-2BCDB12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A18D-44B2-4857-A36C-71118CFC6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292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62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10800" cy="67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91720" cy="676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9200" y="44280"/>
            <a:ext cx="90298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08000" y="98280"/>
            <a:ext cx="90010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5:10Z</dcterms:created>
  <dc:creator>Utilisateur Windows</dc:creator>
  <dc:description/>
  <dc:language>en-US</dc:language>
  <cp:lastModifiedBy>Utilisateur Windows</cp:lastModifiedBy>
  <dcterms:modified xsi:type="dcterms:W3CDTF">2016-11-23T17:35:34Z</dcterms:modified>
  <cp:revision>1</cp:revision>
  <dc:subject/>
  <dc:title>Présentation PowerPoint</dc:title>
</cp:coreProperties>
</file>