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636-0DB3-4756-929B-BC7F4BE3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172-26F0-4645-AF5D-E0EE82C8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E13-26E6-40D0-8CE6-16CCFF46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07A-794A-4F46-889E-F389A3E4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AD0-5F33-4A55-8018-5965512B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8F8-F06C-4E5D-902F-866AFD6E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911-80A4-4475-9809-2D4A1449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AC3-51DB-49D8-89A6-492CD536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877-8A08-467E-896D-725E1C8B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76E-111C-47C4-895F-5AC4A9E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20C-5239-4A87-AEC4-68354B8F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9A2-F917-4E86-8479-7A50C801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C23-C5A2-4896-8C94-D7DD05176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108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98280" y="44280"/>
            <a:ext cx="90108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34920" y="117360"/>
            <a:ext cx="9010800" cy="669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88920" y="115920"/>
            <a:ext cx="902016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69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54000" y="44280"/>
            <a:ext cx="898200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2476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7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99172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1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99172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3360" y="44280"/>
            <a:ext cx="897264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82000" cy="672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4:30Z</dcterms:created>
  <dc:creator>Utilisateur Windows</dc:creator>
  <dc:description/>
  <dc:language>en-US</dc:language>
  <cp:lastModifiedBy>Utilisateur Windows</cp:lastModifiedBy>
  <dcterms:modified xsi:type="dcterms:W3CDTF">2016-11-23T17:34:48Z</dcterms:modified>
  <cp:revision>1</cp:revision>
  <dc:subject/>
  <dc:title>Présentation PowerPoint</dc:title>
</cp:coreProperties>
</file>