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761-3C82-48C6-A9AB-62D127B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E80-71FA-4C89-AEF2-DE9408FE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C2F-3FB6-4886-A42B-26B5C634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893-DE99-4F8B-9478-E903CCD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E9D-6BB6-448C-98F1-7252B344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D8-19A8-4FBA-8C19-76D5161F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210-4599-4886-8AAE-8A33A88C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E1D-6C36-4703-B48E-F405E36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DA2-532A-4F7E-8567-9673577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CD4-5510-4562-98ED-7973C96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6A0-B610-4A48-BFF8-4C1CF71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D9F-F576-4678-B4D5-38DC490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2153-DAA7-4993-BD2A-C11362B80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Réseau CClin/Arlin - Grephh - Quick-audit HDM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74600" y="115920"/>
            <a:ext cx="88614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"/>
          <p:cNvPicPr/>
          <p:nvPr/>
        </p:nvPicPr>
        <p:blipFill>
          <a:blip r:embed="rId1"/>
          <a:stretch/>
        </p:blipFill>
        <p:spPr>
          <a:xfrm>
            <a:off x="60480" y="88920"/>
            <a:ext cx="90486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"/>
          <p:cNvPicPr/>
          <p:nvPr/>
        </p:nvPicPr>
        <p:blipFill>
          <a:blip r:embed="rId1"/>
          <a:stretch/>
        </p:blipFill>
        <p:spPr>
          <a:xfrm>
            <a:off x="85680" y="44280"/>
            <a:ext cx="9023400" cy="676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28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47520" y="115920"/>
            <a:ext cx="901080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486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2" descr=""/>
          <p:cNvPicPr/>
          <p:nvPr/>
        </p:nvPicPr>
        <p:blipFill>
          <a:blip r:embed="rId1"/>
          <a:stretch/>
        </p:blipFill>
        <p:spPr>
          <a:xfrm>
            <a:off x="34920" y="88920"/>
            <a:ext cx="90298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91720" cy="672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3:18Z</dcterms:created>
  <dc:creator>Utilisateur Windows</dc:creator>
  <dc:description/>
  <dc:language>en-US</dc:language>
  <cp:lastModifiedBy>Utilisateur Windows</cp:lastModifiedBy>
  <dcterms:modified xsi:type="dcterms:W3CDTF">2016-11-23T17:33:48Z</dcterms:modified>
  <cp:revision>1</cp:revision>
  <dc:subject/>
  <dc:title>Présentation PowerPoint</dc:title>
</cp:coreProperties>
</file>