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B9B-D00D-4466-BBE5-D909728B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EE1-3FEB-4111-BEA8-B292140D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1A6-7F3C-4C3A-81C2-F23965B1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402-D4FB-4389-ABB4-31FCB42D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F2D2-5A63-43E1-BA1D-D679568A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5493-988D-40B6-8793-275B800F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016D-1DB0-4585-A1B9-BC2B7A06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7D02-81F3-42B5-861C-0977EB95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9AC9-53C9-4799-8806-5FF6A130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5202-0ADC-4E63-8F99-14EE7AE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C5B1-0582-42DB-A056-D8C76CC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61E-5028-4B3F-AB00-F2F13568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CE52-2BF5-4456-9C51-4D08F555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379C-3FF8-48E0-A34B-7B9D03F1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962-2101-4141-9B24-284947E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65C2-27C0-479B-92B0-7173F562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624C-DA95-4ADB-A4AF-10CFFFA5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CBD-0ECE-4B52-B316-28D56E93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770-DAAE-4E3A-BBAC-F4C6A3F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744-2EFC-48B1-BC09-1121DA2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DA0-DA19-4C48-B06D-E87D1220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2CD-975A-422B-8547-1C1CE292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875-C7BB-481E-B3D5-F0DEAAC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1F5-5FFB-42F3-BD40-14BD301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519C-2CA0-4868-AF4D-EE00277405E1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1619-760D-4798-8ADB-9F1A5BE93702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56214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0066"/>
                </a:solidFill>
                <a:latin typeface="Arial"/>
              </a:rPr>
              <a:t>Audit</a:t>
            </a:r>
            <a:r>
              <a:rPr b="1" lang="fr-FR" sz="4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330066"/>
                </a:solidFill>
                <a:latin typeface="Arial"/>
              </a:rPr>
              <a:t>hygiène des mai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cc00"/>
                </a:solidFill>
                <a:latin typeface="Arial"/>
              </a:rPr>
              <a:t>Présentation de l’outil inform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6740" r="0" b="37191"/>
          <a:stretch/>
        </p:blipFill>
        <p:spPr>
          <a:xfrm>
            <a:off x="216000" y="225360"/>
            <a:ext cx="3527280" cy="9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2EE7-EAAC-4452-8450-8534C09FD2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2124000" cy="1052640"/>
            <a:chOff x="0" y="0"/>
            <a:chExt cx="2124000" cy="10526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0" y="107280"/>
              <a:ext cx="2123280" cy="92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671040"/>
              <a:ext cx="212400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0"/>
              <a:ext cx="21240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280" y="65700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Saisie des données : Observan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1665360"/>
            <a:ext cx="3349440" cy="441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708360" y="1773360"/>
            <a:ext cx="5004000" cy="57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olonne correspond à une fiche d’aud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une ou deux observ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2421000"/>
            <a:ext cx="500220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passage de la souris dans le petit triang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ouge rappelle la liste des valeurs permi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ns chaqu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321000"/>
            <a:ext cx="500220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aisissez toutes les cases d’une colon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à chaque fois en tapant sur la touche Entr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ur chaque case, une liste de choix est propos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4149720"/>
            <a:ext cx="5084640" cy="75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as d’erreur lors de la saisie (vous avez tapé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lors que la réponse était 2), vous pouvez rec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retapant 2 sur la case puis en faisant Entr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4976640"/>
            <a:ext cx="5099040" cy="578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message d’erreur est affiché lorsqu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aleur saisie est incorrec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5624640"/>
            <a:ext cx="5084640" cy="54108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type de produit utilisé n’est renseign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e si l’hygiène des mains est réalisé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484280"/>
            <a:ext cx="1079640" cy="482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268000" y="2457000"/>
            <a:ext cx="1465560" cy="241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771280" y="3068640"/>
            <a:ext cx="90036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879280" y="5444640"/>
            <a:ext cx="75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B94-C612-466D-94CE-62F1C084BE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4360" y="5985000"/>
            <a:ext cx="7704000" cy="228600"/>
          </a:xfrm>
          <a:prstGeom prst="wedgeRectCallout">
            <a:avLst>
              <a:gd name="adj1" fmla="val -45592"/>
              <a:gd name="adj2" fmla="val -15972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2016000" cy="981000"/>
            <a:chOff x="0" y="0"/>
            <a:chExt cx="2016000" cy="98100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0" y="99720"/>
              <a:ext cx="201528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625320"/>
              <a:ext cx="201600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0"/>
              <a:ext cx="2016000" cy="15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Saisie des données : Observan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404120" cy="4643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492360" y="1844640"/>
            <a:ext cx="5256360" cy="1152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orsque toutes les données d’une fiche  sont sais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1 ou 2 observations), il apparaît en bas de p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réponse « Oui » à la ques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e cohérente et complète 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950920" y="2673360"/>
            <a:ext cx="936360" cy="32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5913360"/>
            <a:ext cx="38592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3824280"/>
            <a:ext cx="4681440" cy="115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ta ben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analyse ne pourra être lancée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 toutes les fiches sont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MPL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5913360"/>
            <a:ext cx="7885080" cy="3373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2b81"/>
                </a:solidFill>
                <a:latin typeface="Arial"/>
              </a:rPr>
              <a:t>A la fin de la saisie, cliquer sur la flèche Retour au Menu ou sur l’onglet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F67-2877-44A0-86D9-0536ED0CCD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0" y="0"/>
            <a:ext cx="2087640" cy="1015920"/>
            <a:chOff x="0" y="0"/>
            <a:chExt cx="2087640" cy="10159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0" y="103320"/>
              <a:ext cx="2086920" cy="8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0" y="647640"/>
              <a:ext cx="2087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2087640" cy="15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Rapport d’analyse établissemen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6300720" cy="4411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480000" y="1628640"/>
            <a:ext cx="2664000" cy="367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liquez sur le bou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i toutes vos fi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nt complètes, 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ort, poster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aphiques ser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és automatiqu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ns le cas contrai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message d’err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st affiché et vo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vez corriger 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995280" y="2313000"/>
            <a:ext cx="2413080" cy="14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081-01AB-4A3B-9FB9-F88F65B85D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2087640" cy="1125360"/>
            <a:chOff x="0" y="0"/>
            <a:chExt cx="2087640" cy="112536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086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0" y="717480"/>
              <a:ext cx="208764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0"/>
              <a:ext cx="208764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Rapport d’analyse établissemen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58920" y="1521000"/>
            <a:ext cx="8092800" cy="4609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08000" y="2924280"/>
            <a:ext cx="5257800" cy="1512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 rapport est protégé, vous ne pouve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ffectuer aucune mod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31E-464E-433C-BB9C-68893515B5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2087640" cy="1125360"/>
            <a:chOff x="0" y="0"/>
            <a:chExt cx="2087640" cy="112536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086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717480"/>
              <a:ext cx="208764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208764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Poster de synthèse établissemen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50920" y="1719360"/>
            <a:ext cx="6300720" cy="441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443640" y="1916280"/>
            <a:ext cx="2449440" cy="2197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’onglet  « Poster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cessible (un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près la cré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u rappor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311280" y="2744640"/>
            <a:ext cx="3097080" cy="162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671640" y="3284640"/>
            <a:ext cx="2700360" cy="270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0AE-B9AD-436A-BEAE-EB604DBFE0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0"/>
            <a:ext cx="2087640" cy="1125360"/>
            <a:chOff x="0" y="0"/>
            <a:chExt cx="2087640" cy="112536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086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717480"/>
              <a:ext cx="208764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0"/>
              <a:ext cx="208764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Poster de synthèse établissemen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04960" y="1719360"/>
            <a:ext cx="7532640" cy="44114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40000" y="2097000"/>
            <a:ext cx="5257800" cy="1452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 poster est protégé, à l’exception de l’enc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 axes d’amélioration » où vous pouvez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pporter des commentai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63640" y="3753000"/>
            <a:ext cx="5257800" cy="1600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VANT de faire des modifications sur le p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ITES UNE COPIE DU FICH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le renomm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par exemple HYGMAIN_TABLEURV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84720" y="3141720"/>
            <a:ext cx="648000" cy="27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EB9-E568-490D-A9C0-9BA4941C78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2087640" cy="1125360"/>
            <a:chOff x="0" y="0"/>
            <a:chExt cx="2087640" cy="112536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086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717480"/>
              <a:ext cx="208764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208764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000" y="368280"/>
            <a:ext cx="75438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Graphiques établissemen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42920" y="1484280"/>
            <a:ext cx="6229440" cy="5040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300720" y="1219320"/>
            <a:ext cx="2664000" cy="2786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’onglet « Graphique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cessibles (un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près la cré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u rappor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16000" y="2349360"/>
            <a:ext cx="3492360" cy="1756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95640" y="2637000"/>
            <a:ext cx="2376720" cy="360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DC2-186F-42C9-B999-02331ED932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66960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          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0" y="0"/>
            <a:ext cx="2016000" cy="1089000"/>
            <a:chOff x="0" y="0"/>
            <a:chExt cx="2016000" cy="108900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0" y="110880"/>
              <a:ext cx="201528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0" y="694080"/>
              <a:ext cx="20160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0"/>
              <a:ext cx="201600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84360" y="584280"/>
            <a:ext cx="75438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Graphiques établiss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47640" y="1449360"/>
            <a:ext cx="7885080" cy="4646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08000" y="2924280"/>
            <a:ext cx="5257800" cy="1512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 rapport est protégé, vous ne pouve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ffectuer aucune mod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0C2-2B37-4567-A0F8-A23FCA8D4E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16000" y="1484280"/>
            <a:ext cx="6119640" cy="464652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0" y="0"/>
            <a:ext cx="2087640" cy="1015920"/>
            <a:chOff x="0" y="0"/>
            <a:chExt cx="2087640" cy="1015920"/>
          </a:xfrm>
        </p:grpSpPr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0" y="103320"/>
              <a:ext cx="2086920" cy="8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0" y="647640"/>
              <a:ext cx="2087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0"/>
              <a:ext cx="2087640" cy="15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Rapport d’analyse servi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932360" y="2168640"/>
            <a:ext cx="1512720" cy="24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92720" y="1341360"/>
            <a:ext cx="2772000" cy="5183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oisissez le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artir de la l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éroul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liquez sur le bout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Création rapport service 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i toutes vos fi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nt complèt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fichier service 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é et automatiqu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uvert pour visual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s résulta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fichier xl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ns le cas contrai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message d’err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st affiché et vo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vez corriger 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841-53E9-4BB7-A605-D2C474D320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11280" y="1449360"/>
            <a:ext cx="7237440" cy="468144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0" y="0"/>
            <a:ext cx="2087640" cy="1125360"/>
            <a:chOff x="0" y="0"/>
            <a:chExt cx="2087640" cy="1125360"/>
          </a:xfrm>
        </p:grpSpPr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0" y="114480"/>
              <a:ext cx="2086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0" y="717480"/>
              <a:ext cx="208764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208764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Rapport d’analyse servi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8000" y="2924280"/>
            <a:ext cx="5257800" cy="1512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 rapport est protégé, vous ne pouve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ffectuer aucune mod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E33-391B-482B-8A2A-95722EA715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4404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591920"/>
            <a:ext cx="8339040" cy="47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Installation de HYGMAIN_TABLEUR.x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Saisie des donné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Éditions pour l’établiss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Rapport d’analy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oster de synthè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Graphiq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Édition par 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pport d’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ter de synth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Sauvegarde des donné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Fusion des donné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Assistance en cas de difficulté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2411280" cy="1125360"/>
            <a:chOff x="0" y="0"/>
            <a:chExt cx="2411280" cy="11253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41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717480"/>
              <a:ext cx="24112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241128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3E8-5A8E-4482-94A5-A8B13D956B9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0"/>
            <a:ext cx="2087640" cy="1125360"/>
            <a:chOff x="0" y="0"/>
            <a:chExt cx="2087640" cy="112536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086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0" y="717480"/>
              <a:ext cx="208764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0"/>
              <a:ext cx="208764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Poster de synthèse servi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532640" cy="4411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843280" y="2492280"/>
            <a:ext cx="5257800" cy="1452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 poster est protégé, à l’exception de l’enc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 axes d’amélioration » où vous pouvez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pporter des commentai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84360" y="3824280"/>
            <a:ext cx="466920" cy="20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556-F43C-4680-BCBC-4823270F43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2411280" cy="1052640"/>
            <a:chOff x="0" y="0"/>
            <a:chExt cx="2411280" cy="105264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tretch/>
          </p:blipFill>
          <p:spPr>
            <a:xfrm>
              <a:off x="0" y="107280"/>
              <a:ext cx="2410200" cy="92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671040"/>
              <a:ext cx="241128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0"/>
              <a:ext cx="241128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330066"/>
                </a:solidFill>
                <a:latin typeface="Arial"/>
              </a:rPr>
              <a:t>S</a:t>
            </a: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auvegarde des donné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7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4 possibilité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ous cliquez sur l’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ous allez dans le menu Fichier, vous cliquez sur Enregistr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ous tapez Ctrl S sur votre clavi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orsque vous quittez l’application, vous obtenez la fenêt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liquez sur O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203640" y="2349360"/>
            <a:ext cx="4038480" cy="706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176720" y="5408640"/>
            <a:ext cx="3929040" cy="771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H="1">
            <a:off x="3634920" y="2228760"/>
            <a:ext cx="1003320" cy="37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419640" y="2529000"/>
            <a:ext cx="900000" cy="82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6AA-4974-42BB-8B25-AD2B7338A69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2411280" cy="1125360"/>
            <a:chOff x="0" y="0"/>
            <a:chExt cx="2411280" cy="112536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41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0" y="717480"/>
              <a:ext cx="24112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0"/>
              <a:ext cx="241128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524720" cy="10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Fusion des donné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449360"/>
            <a:ext cx="8447040" cy="47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établissements ayant un audit de plus de 506 observations ou concernant plus de 17 services doivent télécharger plusieurs fichiers HYGMAIN_TABLEUR.xls, les renommer puis utiliser la procédure de fusion pour obtenir un résultat glob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près téléchargement du fichier HYGMAIN_TABLEUR_FUSION.xls, double-cliquez sur l’icône du fichier et activer obligatoirement les mac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A1F-DF27-43E4-B808-13B3FFFDD59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2411280" cy="1125360"/>
            <a:chOff x="0" y="0"/>
            <a:chExt cx="2411280" cy="112536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41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0" y="717480"/>
              <a:ext cx="24112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0"/>
              <a:ext cx="241128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Fusion des donné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76280" y="1160640"/>
            <a:ext cx="8190000" cy="4068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5280" y="5192640"/>
            <a:ext cx="6769080" cy="973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aisissez dans chaque case le nom des fichiers à fusionn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ans exten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fichiers doivent être sous le même doss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liquez sur le bouton «fusionner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209-AF3E-485E-B8E2-471AD4A7B9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0" y="0"/>
            <a:ext cx="2087640" cy="1125360"/>
            <a:chOff x="0" y="0"/>
            <a:chExt cx="2087640" cy="112536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086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717480"/>
              <a:ext cx="208764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0"/>
              <a:ext cx="208764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Fusion des données </a:t>
            </a:r>
            <a:br>
              <a:rPr sz="3000"/>
            </a:b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Edition rapport global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58920" y="1521000"/>
            <a:ext cx="8245440" cy="46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614-029D-4E83-8C79-04650DA6AE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0" y="0"/>
            <a:ext cx="2411280" cy="1125360"/>
            <a:chOff x="0" y="0"/>
            <a:chExt cx="2411280" cy="1125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41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717480"/>
              <a:ext cx="24112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0"/>
              <a:ext cx="241128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524720" cy="10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Assistance en cas de difficulté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1280" y="1881360"/>
            <a:ext cx="8447400" cy="43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acros désactivées par még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4928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Quitter l’appl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4928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Activer les macros lors de la réouver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acros non autorisé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4928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’édition du rapport et du poster ne fonctionnera p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816-F565-4D8F-8BF4-CE9277011F3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2411280" cy="1125360"/>
            <a:chOff x="0" y="0"/>
            <a:chExt cx="2411280" cy="112536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41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717480"/>
              <a:ext cx="24112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0"/>
              <a:ext cx="241128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524720" cy="10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Question ou autre difficulté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31280" y="1557360"/>
            <a:ext cx="8447400" cy="45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acter votre CCLIN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CLIN Est :</a:t>
            </a: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Karine SA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él. :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03 83 15 34 7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-mail : k.saby@chu-nancy.f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CLIN Ouest 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adine GAR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él. :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02 99 87 35 37 - e-mail : nadine.garreau@chu-rennes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CLIN Paris-Nord 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bien DANIEL</a:t>
            </a: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01 40 46 42 08 - e-mail : fabien.daniel@bhdc.jussieu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CLIN Sud-Est 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noît TRESSIERE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él. : 04 78 86 49 22 – e-mail : benoit.tressieres@chu-lyon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CLIN Sud-Ouest 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uriel PEF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él. : 05 56 79 60 58 - e-mail : muriel.pefau@chu-bordeaux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500-5E88-4091-A1B6-EF8295B2684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0" y="0"/>
            <a:ext cx="2411280" cy="1125360"/>
            <a:chOff x="0" y="0"/>
            <a:chExt cx="2411280" cy="112536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41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717480"/>
              <a:ext cx="24112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0"/>
              <a:ext cx="241128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524720" cy="10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Groupe de travail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31280" y="1375920"/>
            <a:ext cx="8447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Groupe « HYGMAIN 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lvie ARS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r. Martine AUP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adine GARREA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ièle LANDRI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r. Hubert TRO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r. Delphine VERJAT-TRANN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iel ZARO-G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A62-4EDB-49D9-9CBB-98790148C134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728640"/>
            <a:ext cx="7524720" cy="10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Installation de HYGMAIN_TABLEUR.xl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63640" y="1989000"/>
            <a:ext cx="8051760" cy="41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application HYGMAIN_TABLEUR vous permettr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De saisir les fiches de l’audit hygiène des mai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D’obtenir un rapport d’analyse, un poster de synthèse et des graphiques de vos résultats pour votre établissement et par ser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application fonctionn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Avec le tableur Excel (à partir de la version 97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2411280" cy="1125360"/>
            <a:chOff x="0" y="0"/>
            <a:chExt cx="2411280" cy="11253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0" y="114480"/>
              <a:ext cx="2410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0" y="717480"/>
              <a:ext cx="24112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0"/>
              <a:ext cx="241128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7A8-F647-4FC5-A865-42EDF31A2E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Installation de HYGMAIN_TABLEUR.xl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près téléchargement, double-cliquez sur l’icône du fich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i vous avez le message suivant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liquer sur activer les macr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lles doivent être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obligatoirement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activ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2411280" cy="1052640"/>
            <a:chOff x="0" y="0"/>
            <a:chExt cx="2411280" cy="10526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0" y="107280"/>
              <a:ext cx="2410200" cy="92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671040"/>
              <a:ext cx="241128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241128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700360" y="2960640"/>
            <a:ext cx="3733920" cy="16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880-4050-46A8-95DE-EFA7F16600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728280"/>
            <a:ext cx="82090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Vous arrivez sur le texte d’avertissement suivant : </a:t>
            </a:r>
            <a:r>
              <a:rPr b="1" lang="fr-FR" sz="3000" spc="-1" strike="noStrike" u="sng">
                <a:solidFill>
                  <a:srgbClr val="330066"/>
                </a:solidFill>
                <a:uFillTx/>
                <a:latin typeface="Arial"/>
              </a:rPr>
              <a:t>à lir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0"/>
            <a:ext cx="2268360" cy="1052640"/>
            <a:chOff x="0" y="0"/>
            <a:chExt cx="2268360" cy="105264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0" y="107280"/>
              <a:ext cx="2267280" cy="92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671040"/>
              <a:ext cx="226836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0"/>
              <a:ext cx="226836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19160" y="1952640"/>
            <a:ext cx="730872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D2C-B2DB-4024-9D2A-B03FC5183E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692280"/>
            <a:ext cx="782136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Saisie des données : Établissemen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1871640" cy="981000"/>
            <a:chOff x="0" y="0"/>
            <a:chExt cx="1871640" cy="981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0" y="99720"/>
              <a:ext cx="187092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625320"/>
              <a:ext cx="187164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1871640" cy="15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6360" y="1916280"/>
            <a:ext cx="6387840" cy="4411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912000" y="2313000"/>
            <a:ext cx="2057400" cy="234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« etablissement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63640" y="3141720"/>
            <a:ext cx="3313080" cy="7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556000" y="3681360"/>
            <a:ext cx="4356000" cy="255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BA0-6440-4899-9DDE-CB7BB931FD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754380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Saisie des données : Établissemen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0"/>
            <a:ext cx="1943280" cy="873000"/>
            <a:chOff x="0" y="0"/>
            <a:chExt cx="1943280" cy="8730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0" y="88920"/>
              <a:ext cx="1942560" cy="76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556560"/>
              <a:ext cx="1943280" cy="31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0"/>
              <a:ext cx="19432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96880" y="1628640"/>
            <a:ext cx="7950240" cy="33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6000" y="5337000"/>
            <a:ext cx="80769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sissez les données dans les cases encadrées puis tap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r Tab ou « Entrée » pour passer à la case suiv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02A-9127-4A53-8D0B-F6434049D5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51264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Saisie des données : Établissemen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1835280" cy="836280"/>
            <a:chOff x="0" y="0"/>
            <a:chExt cx="1835280" cy="83628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0" y="85320"/>
              <a:ext cx="1834560" cy="7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533160"/>
              <a:ext cx="1835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18352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47640" y="1376280"/>
            <a:ext cx="5904000" cy="32050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7308720" y="1449360"/>
            <a:ext cx="1295280" cy="1371600"/>
            <a:chOff x="7308720" y="1449360"/>
            <a:chExt cx="1295280" cy="1371600"/>
          </a:xfrm>
        </p:grpSpPr>
        <p:sp>
          <p:nvSpPr>
            <p:cNvPr id="200" name=""/>
            <p:cNvSpPr/>
            <p:nvPr/>
          </p:nvSpPr>
          <p:spPr>
            <a:xfrm>
              <a:off x="7308720" y="1449360"/>
              <a:ext cx="1295280" cy="1371600"/>
            </a:xfrm>
            <a:prstGeom prst="wedgeEllipseCallout">
              <a:avLst>
                <a:gd name="adj1" fmla="val -99388"/>
                <a:gd name="adj2" fmla="val -12962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4680" y="1522080"/>
              <a:ext cx="12193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A la fin de la saisie, cliquer sur Retour au Men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3280" y="4005360"/>
            <a:ext cx="8075520" cy="936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i vous saisissez des données en dehors des valeurs possibles, u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essage vous le signalera. Cliquez sur Réessayer et saisissez u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valeur autorisée. Vous pouvez toujours revenir sur une case avec Tab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3280" y="4941720"/>
            <a:ext cx="8064360" cy="126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aisissez les services participants à l’audit. Utilisez une codif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interne à votre établissemen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rsque la saisie des fiches est commencée, la codification des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ne doit plus être modifié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492360" y="3681360"/>
            <a:ext cx="648000" cy="165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DDF-6B2C-4548-8C2F-C353711ABA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2828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30066"/>
                </a:solidFill>
                <a:latin typeface="Arial"/>
              </a:rPr>
              <a:t>Saisie des données : Observan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1943280" cy="1089000"/>
            <a:chOff x="0" y="0"/>
            <a:chExt cx="1943280" cy="108900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0" y="110880"/>
              <a:ext cx="19425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694080"/>
              <a:ext cx="194328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194328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76360" y="1916280"/>
            <a:ext cx="6387840" cy="4411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912000" y="2313000"/>
            <a:ext cx="2057400" cy="234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« observance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27640" y="3141720"/>
            <a:ext cx="24494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024360" y="3824280"/>
            <a:ext cx="4068720" cy="23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ygiène des mains "observance/pertinence"  GREPHH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219-AAD0-4A60-8728-5BFCE2392A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usae</cp:lastModifiedBy>
  <dcterms:modified xsi:type="dcterms:W3CDTF">2008-03-26T10:13:34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2</vt:r8>
  </property>
</Properties>
</file>